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AD9-1161-4E14-BC98-1218E138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52C-C713-46E4-8E92-9A52DE7C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503-E17C-46DC-A833-0E14356C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960-83F4-44C1-89A6-6596D837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8625-43AC-4443-95DC-94B269C1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CAD2-3614-4857-BDBD-3946A51E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2335-9648-4821-AE4C-B03D6054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2F2A-34F2-4901-B945-B4437476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6400-AA8D-4E3B-AD6C-1C228B41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56F6-4544-4A47-B4B1-61AA51EC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8D63-788B-414D-A547-A1148BAE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EB5-7DF3-432E-8DC1-D80CE0D6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4958-47B0-4A66-8C77-B2BD5FC9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B9A3-B1C0-411D-B0BE-71CB9F6F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DD42-03F3-4224-9123-5AF770BF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5E32-E12F-47DD-96BC-2A7E8D57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3161-3358-4DE6-B800-505B2040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F7B-9E0A-4E65-ABE4-6CCFD338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357-5B27-431D-8F56-5173467A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E3D-D602-4B49-8868-27245EED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4ED-EC6B-4253-BE00-AFD7F5C2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EF0-91E1-4976-A9DA-1800111D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916-2862-4CFC-A1E2-46C82234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C41-D616-4453-98FC-81FCB60D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3A41-9D3D-49C2-9594-74EB246964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FD30-674E-4917-BF69-0AD980C6C3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2763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Живая оболочка Земл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4648320"/>
            <a:ext cx="7772400" cy="1904760"/>
          </a:xfrm>
          <a:prstGeom prst="rect">
            <a:avLst/>
          </a:prstGeom>
          <a:noFill/>
          <a:ln w="76320">
            <a:solidFill>
              <a:srgbClr val="97a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Составила: Маркова Лайма Валдис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химии и биологии Усть-Язьвинской МСОШ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Добрынина Людмила Викторовна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67080" cy="26668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711000"/>
          </a:xfrm>
          <a:prstGeom prst="rect">
            <a:avLst/>
          </a:prstGeom>
          <a:solidFill>
            <a:srgbClr val="33cc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Живая оболочка Зем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34340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3505320" cy="240192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35053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презентации использованы иллюстрации из: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27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Количество живого вещества той или иной биологической системы, приходящееся на единицу площади или объе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3352680"/>
            <a:ext cx="1905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S =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705720" y="5791320"/>
            <a:ext cx="1904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V  = 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Ученый, создавший учение о биосфер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874600" y="1669320"/>
            <a:ext cx="33966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63–1945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Вернадский Владимир Иванович"/>
          <p:cNvPicPr/>
          <p:nvPr/>
        </p:nvPicPr>
        <p:blipFill>
          <a:blip r:embed="rId1"/>
          <a:stretch/>
        </p:blipFill>
        <p:spPr>
          <a:xfrm>
            <a:off x="6934320" y="4267080"/>
            <a:ext cx="1952640" cy="24004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2590920"/>
            <a:ext cx="1905120" cy="145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0" y="4495680"/>
            <a:ext cx="2057400" cy="18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Вещество, образованное совокупностью организм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16765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173988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.Живые организмы, составляющие основную часть биомассы планет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.Газовая оболочка Земл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. Элемент - органоге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1604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6477120" y="2743200"/>
            <a:ext cx="1847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  O    C    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 rot="19768200">
            <a:off x="228600" y="3809880"/>
            <a:ext cx="2438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  Na  S  P  Cl  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6880"/>
            <a:ext cx="8229600" cy="131292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7. Движение веществ в природ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42640"/>
            <a:ext cx="8229600" cy="17492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.Важный компонент биосферы и один из необходимых факторов существования живых организм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hitel</cp:lastModifiedBy>
  <dcterms:modified xsi:type="dcterms:W3CDTF">2011-03-05T15:30:5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